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7612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82872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3809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9335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4861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486160" indent="-276120">
              <a:spcBef>
                <a:spcPts val="47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486160" indent="-276120">
              <a:spcBef>
                <a:spcPts val="47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marL="61560" indent="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1560" indent="-6156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61560" indent="-6156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61560" indent="-6156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61560" indent="-6156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61560" indent="-6156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61560" indent="-6156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7720" indent="-20772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85880" indent="-20772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363680" indent="-20772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941480" indent="-20772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519280" indent="-20772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519280" indent="-207720">
              <a:spcBef>
                <a:spcPts val="4000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519280" indent="-207720">
              <a:spcBef>
                <a:spcPts val="4000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InsertedImage.jpg"/>
          <p:cNvPicPr/>
          <p:nvPr/>
        </p:nvPicPr>
        <p:blipFill>
          <a:blip r:embed="rId2"/>
          <a:srcRect l="0" t="12516" r="0" b="12516"/>
          <a:stretch/>
        </p:blipFill>
        <p:spPr>
          <a:xfrm>
            <a:off x="17640" y="-836640"/>
            <a:ext cx="12968280" cy="75582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0840" y="6688080"/>
            <a:ext cx="7184880" cy="279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What  rights were African Americans denied as slaves?   How might they go about obtaining those right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all to Order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HWBAT analyze the significance of the 13th, 14th, and 15th amendments by analyzing pictures and political cartoons. (5.1.1.a)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Essential Question: Were these amendments revolutionar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InsertedImage.jpg"/>
          <p:cNvPicPr/>
          <p:nvPr/>
        </p:nvPicPr>
        <p:blipFill>
          <a:blip r:embed="rId2"/>
          <a:srcRect l="5955" t="0" r="5955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I. Thirteenth Amend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7080" indent="-21708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747474"/>
                </a:solidFill>
                <a:latin typeface="Helvetica Neue"/>
              </a:rPr>
              <a:t>Freed all of the slaves</a:t>
            </a:r>
            <a:endParaRPr b="0" lang="en-US" sz="3800" spc="-1" strike="noStrike">
              <a:solidFill>
                <a:srgbClr val="747474"/>
              </a:solidFill>
              <a:latin typeface="Helvetica Neue"/>
            </a:endParaRPr>
          </a:p>
          <a:p>
            <a:pPr marL="217080" indent="-21708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747474"/>
                </a:solidFill>
                <a:latin typeface="Helvetica Neue"/>
              </a:rPr>
              <a:t>Angered southerners, who worried that they would no longer have a labor force</a:t>
            </a:r>
            <a:endParaRPr b="0" lang="en-US" sz="3800" spc="-1" strike="noStrike">
              <a:solidFill>
                <a:srgbClr val="747474"/>
              </a:solidFill>
              <a:latin typeface="Helvetica Neue"/>
            </a:endParaRPr>
          </a:p>
          <a:p>
            <a:pPr marL="217080" indent="-21708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747474"/>
                </a:solidFill>
                <a:latin typeface="Helvetica Neue"/>
              </a:rPr>
              <a:t>Southern democrats created "black codes" to limit migration and control where African Americans worked</a:t>
            </a:r>
            <a:endParaRPr b="0" lang="en-US" sz="38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II. Fourteenth Amend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04560" indent="-30456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747474"/>
                </a:solidFill>
                <a:latin typeface="Helvetica Neue Light"/>
              </a:rPr>
              <a:t>Established that all men are equal under the law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  <a:p>
            <a:pPr marL="304560" indent="-30456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747474"/>
                </a:solidFill>
                <a:latin typeface="Helvetica Neue Light"/>
              </a:rPr>
              <a:t>Ratification required 3/4 of all states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  <a:p>
            <a:pPr marL="304560" indent="-30456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747474"/>
                </a:solidFill>
                <a:latin typeface="Helvetica Neue Light"/>
              </a:rPr>
              <a:t>All southern states (except Tennessee) refused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  <a:p>
            <a:pPr marL="304560" indent="-30456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747474"/>
                </a:solidFill>
                <a:latin typeface="Helvetica Neue Light"/>
              </a:rPr>
              <a:t>The United States government sent the military to get rid of southern governments and establish new ones. 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InsertedImage.jpg"/>
          <p:cNvPicPr/>
          <p:nvPr/>
        </p:nvPicPr>
        <p:blipFill>
          <a:blip r:embed="rId2"/>
          <a:srcRect l="10694" t="0" r="17509" b="1877"/>
          <a:stretch/>
        </p:blipFill>
        <p:spPr>
          <a:xfrm>
            <a:off x="5705640" y="0"/>
            <a:ext cx="7256160" cy="9753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III. New Southern Government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5760" indent="-27576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747474"/>
                </a:solidFill>
                <a:latin typeface="Helvetica Neue"/>
              </a:rPr>
              <a:t>Scalawags: derogatory term used for southerners who supported reconstruction in the south</a:t>
            </a:r>
            <a:endParaRPr b="0" lang="en-US" sz="3800" spc="-1" strike="noStrike">
              <a:solidFill>
                <a:srgbClr val="747474"/>
              </a:solidFill>
              <a:latin typeface="Helvetica Neue"/>
            </a:endParaRPr>
          </a:p>
          <a:p>
            <a:pPr marL="275760" indent="-27576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747474"/>
                </a:solidFill>
                <a:latin typeface="Helvetica Neue"/>
              </a:rPr>
              <a:t>Carpetbaggers: northerners who moved to the south during reconstruction.</a:t>
            </a:r>
            <a:endParaRPr b="0" lang="en-US" sz="38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InsertedImage.jpg"/>
          <p:cNvPicPr/>
          <p:nvPr/>
        </p:nvPicPr>
        <p:blipFill>
          <a:blip r:embed="rId2"/>
          <a:srcRect l="9390" t="0" r="9390" b="0"/>
          <a:stretch/>
        </p:blipFill>
        <p:spPr>
          <a:xfrm>
            <a:off x="6531120" y="0"/>
            <a:ext cx="6443640" cy="9753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IV. Fifteenth Amend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747474"/>
                </a:solidFill>
                <a:latin typeface="Helvetica Neue"/>
              </a:rPr>
              <a:t>Gave African Americans the right to vote</a:t>
            </a:r>
            <a:endParaRPr b="0" lang="en-US" sz="3700" spc="-1" strike="noStrike">
              <a:solidFill>
                <a:srgbClr val="747474"/>
              </a:solidFill>
              <a:latin typeface="Helvetica Neue"/>
            </a:endParaRPr>
          </a:p>
          <a:p>
            <a:pPr marL="325440" indent="-325440">
              <a:spcBef>
                <a:spcPts val="4000"/>
              </a:spcBef>
              <a:buClr>
                <a:srgbClr val="747474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747474"/>
                </a:solidFill>
                <a:latin typeface="Helvetica Neue"/>
              </a:rPr>
              <a:t>Jim Crow laws, including the grandfather clause and poll taxes, were passed in the South to prevent voting</a:t>
            </a:r>
            <a:endParaRPr b="0" lang="en-US" sz="37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ut simply: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830840" y="4277160"/>
            <a:ext cx="3341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Free. Men. Vote.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hecks for Understand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82240" indent="-28224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at was the difference between the 13th, 14th, 15th amendment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282240" indent="-28224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y did most southerners disapprove of scalawags and carpetbagger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282240" indent="-28224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How did the 14th amendment finally get ratified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282240" indent="-28224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at barriers did the 13</a:t>
            </a:r>
            <a:r>
              <a:rPr b="0" lang="en-US" sz="3600" spc="-1" strike="noStrike" baseline="30000">
                <a:solidFill>
                  <a:srgbClr val="747474"/>
                </a:solidFill>
                <a:latin typeface="Helvetica Neue Light"/>
              </a:rPr>
              <a:t>th</a:t>
            </a: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 and 15</a:t>
            </a:r>
            <a:r>
              <a:rPr b="0" lang="en-US" sz="3600" spc="-1" strike="noStrike" baseline="30000">
                <a:solidFill>
                  <a:srgbClr val="747474"/>
                </a:solidFill>
                <a:latin typeface="Helvetica Neue Light"/>
              </a:rPr>
              <a:t>th</a:t>
            </a: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 amendments face to being properly executed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282240" indent="-28224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o what extent did each of these truly change the lives of African Americans in the south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282240"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1:11:15Z</dcterms:created>
  <dc:creator/>
  <dc:description/>
  <dc:language>en-US</dc:language>
  <cp:lastModifiedBy>Molly Zeins</cp:lastModifiedBy>
  <dcterms:modified xsi:type="dcterms:W3CDTF">2011-10-12T13:19:45Z</dcterms:modified>
  <cp:revision>2</cp:revision>
  <dc:subject/>
  <dc:title>What  rights were African Americans denied as slaves?   How might they go about obtaining those rights?</dc:title>
</cp:coreProperties>
</file>